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12A03-5A1F-4221-9388-B476790A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D97C-19E8-476A-806F-18C9175D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4BD2-A161-4FE6-8E86-8AA0FFCD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B66E6-8011-4067-9316-8F240DEF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8D40-3969-47C3-A799-03E85E28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8ED7-AD2E-465C-8988-163505BB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0926-2F03-4F84-8EA9-5E0B5761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E0F5-A054-463B-8216-188E1187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78A1-96C2-43CF-8BE8-D0571707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E892-EB75-4F7A-AC85-972BB9AB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CAA2-C127-450B-89E6-8A21678E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32A0-6436-43B6-8945-CB3DC408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E47B-CE12-4808-88B1-3247CE1F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AA38-2560-4A38-B201-806C0FFB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7AC7-F655-4A7B-851D-BF80338A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7D44-500D-495A-9951-4EE330A1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1C23-0E41-4EE1-B675-4F60D961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BDC2-3D14-471C-907C-9F1729AF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128FD-8628-426E-996E-E2F15D8F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66E15-D74A-44C3-8595-C2D56A4F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F63A-C3C1-4ADA-86FE-ACB89A90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0F70-B016-4B1E-8396-57620807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29FF2-43D4-4CE3-86CB-36DAA892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787F5-BF29-4518-933A-D2760C3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D0D6-514B-4D41-BAD4-7EA0C57D19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0649-C889-45C0-B5E1-00236831B2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i de la autobu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3T07:46:41Z</dcterms:modified>
  <cp:revision>6</cp:revision>
  <dc:subject/>
  <dc:title>Petrolul mişcă omenirea</dc:title>
</cp:coreProperties>
</file>